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9B7C2-4616-4D1E-BCE4-24A7EBF38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88588-4920-404A-8E21-2A93DB891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A4697-C77D-4CFF-B557-626851F37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C7AD1-A720-4E11-BFE3-2ADEC1125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C2D67-D249-4E2B-9939-8B0700E52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F9336-66E3-4DFD-BAD5-3D79D58AC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6DC12-DCB3-440D-8C42-3C6506594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50194-FA86-4849-92FC-1B5A0C734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EAE33-F060-4EC8-958E-77932F190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BBF30-61E7-4CC8-AF98-4C105EB60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F81E5-42A1-42F1-846C-5704B14A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A7300-369C-4CAC-A1D5-DFDF256C8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37A54-CE21-4C49-9C87-E3E97A61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3B7F8-BEDE-4084-87C0-9E04DD0A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9FD3C-A48D-4B7D-BA74-82160B500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C3E89-032F-4C3A-A671-359FC0D4C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72BB1-B2A3-430F-B149-A54E3EEDB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B7C27-1221-43CD-9586-B2EF92473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FF38F-A20D-4E7E-B435-649996EC3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85F89-1262-40EB-91A6-8ECA0CF15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36B0E-8A39-4B00-8AD6-9FAF4FFF9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D5C59-EA83-4B26-8A17-A04CAE16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022D2-6518-401D-8E9D-9ECE2FBE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0C8EA-1303-420E-A8BA-BA91092F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857C0-BE80-4A4C-8E55-9B09023A318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BA24C-F393-4E38-805A-FC0E5C02242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130120"/>
            <a:ext cx="8458200" cy="146988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Garamond"/>
              </a:rPr>
              <a:t>Решение </a:t>
            </a:r>
            <a:br>
              <a:rPr sz="4800"/>
            </a:br>
            <a:r>
              <a:rPr b="1" lang="ru-RU" sz="4800" spc="-1" strike="noStrike">
                <a:solidFill>
                  <a:srgbClr val="ffcc00"/>
                </a:solidFill>
                <a:latin typeface="Garamond"/>
              </a:rPr>
              <a:t>биологических задач по теме «Рыбы» </a:t>
            </a:r>
            <a:br>
              <a:rPr sz="4800"/>
            </a:br>
            <a:r>
              <a:rPr b="1" lang="ru-RU" sz="4800" spc="-1" strike="noStrike">
                <a:solidFill>
                  <a:srgbClr val="ffcc00"/>
                </a:solidFill>
                <a:latin typeface="Garamond"/>
              </a:rPr>
              <a:t>с использованием элементов ТРИЗ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рок биологии для 7 класс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дготовлен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Мищук О.М., учителем биологии МБОУ Дзержинская СШ№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расноярского кра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Творческие задания 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(</a:t>
            </a: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работа в парах)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На то и щука в водоёме, чтобы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                       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карась не дремал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2. Как рыба в воде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3. На безрыбье и рак – рыба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4. Будешь спать на берегу,               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не наловишь  и на уху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5. Была бы рыба, а  рыбак найдётся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6. Рыба в реке – ещё не в руке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7. Чем больше зависти, тем меньше рыбы.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Метод незаконченных вопросов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егодня я  узнал….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Мне  понравилось….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Я  научился….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Для меня было открытием ….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Я понял, как…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Я считаю, что…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Я убедился, что…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Творческое домашнее  задание.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Перечислить рыб, имеющих назван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Зверей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тиц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ружия и инструментов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ерсонажей из сказок и мифов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офессий и воинских звани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Подготовьт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           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«Презентацию – портрет»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«Знания только тогда знания,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когда они приобретены      усилиями  своей  мысли,  а  не    памятью»     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Л.Н.Толстой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510516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Выделение существенных признаков строения рыб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ополнить фразу:      </a:t>
            </a: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«Рыбы - это….»</a:t>
            </a: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06" name="Object 7"/>
          <p:cNvGraphicFramePr/>
          <p:nvPr/>
        </p:nvGraphicFramePr>
        <p:xfrm>
          <a:off x="458640" y="2971800"/>
          <a:ext cx="8213760" cy="31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2971800"/>
                    <a:ext cx="8213760" cy="31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8" name="Picture 8" descr="рыба"/>
          <p:cNvPicPr/>
          <p:nvPr/>
        </p:nvPicPr>
        <p:blipFill>
          <a:blip r:embed="rId3"/>
          <a:stretch/>
        </p:blipFill>
        <p:spPr>
          <a:xfrm>
            <a:off x="380880" y="2438280"/>
            <a:ext cx="83822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ешение проблемы с помощью вепольного анализа.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2590920"/>
            <a:ext cx="876312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«Известно, что в  пещерных водоёмах обитают слепые рыбы. Как ориентируются слепые рыбы в таких условиях?»</a:t>
            </a: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езультаты  исследовательской работы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2590920"/>
            <a:ext cx="784836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5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ru-RU" sz="6000" spc="-1" strike="noStrike">
                <a:solidFill>
                  <a:srgbClr val="ffffff"/>
                </a:solidFill>
                <a:latin typeface="Garamond"/>
              </a:rPr>
              <a:t>«Многообразие 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i="1" lang="ru-RU" sz="6000" spc="-1" strike="noStrike">
                <a:solidFill>
                  <a:srgbClr val="ffffff"/>
                </a:solidFill>
                <a:latin typeface="Garamond"/>
              </a:rPr>
              <a:t>рыбных   ресурсов 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i="1" lang="ru-RU" sz="6000" spc="-1" strike="noStrike">
                <a:solidFill>
                  <a:srgbClr val="ffffff"/>
                </a:solidFill>
                <a:latin typeface="Garamond"/>
              </a:rPr>
              <a:t>в магазинах села»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cc00"/>
                </a:solidFill>
                <a:uFillTx/>
                <a:latin typeface="Garamond"/>
                <a:hlinkClick r:id="rId1" action="ppaction://hlinksldjump"/>
              </a:rPr>
              <a:t>Понятийный диктант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1. Переведите на греческий –  «струна»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2.  Переведите на греческий –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            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«учение о жилище»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3.  Переведите на греческий –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         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«учение о животных»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4.  Переведите на латинский –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              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«народ, население»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5.  Переведите на латинский – «окраска»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Ответы на понятийный диктант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1. Хорда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2. Экология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3.  Зоология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4.  Популяция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5.  Пигмент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ешение </a:t>
            </a:r>
            <a:br>
              <a:rPr sz="44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биологических проблем </a:t>
            </a:r>
            <a:br>
              <a:rPr sz="44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с помощью метода </a:t>
            </a:r>
            <a:br>
              <a:rPr sz="44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контрольных вопросов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14240" y="3886200"/>
            <a:ext cx="6172200" cy="22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Garamond"/>
                <a:hlinkClick r:id="rId1" action="ppaction://hlinksldjump"/>
              </a:rPr>
              <a:t>Работа в группах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cc00"/>
                </a:solidFill>
                <a:uFillTx/>
                <a:latin typeface="Garamond"/>
                <a:hlinkClick r:id="rId1" action="ppaction://hlinksldjump"/>
              </a:rPr>
              <a:t>Работа в группах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1.Какие приспособления сформировались в процессе эволюции    у   акул,  в связи с питанием крупной подвижной добычей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2. Каким образом связаны со средой обитания следующие особенности строения сазана: широкое тело, малая подвижность, наличие прочных глоточных зубов, способность выдвигать рот в виде трубочки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3. У определённых видов рыб, живущих в придонных слоях океана, имеются под кожей вещества, делающие их тело светящимся  или интенсивно – тёмными. В чём преимущества такой окраски для глубоководных рыб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4. После дождя клёв рыбы в водоёме  значительно усилился. Как можно объяснить этот факт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5. Почему зимой может происходить замор (удушье) рыб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6. В аквариум к слепой щуке  пустили рыб. Не видя их, щука бросилась на них без промаха и переловила всех. Каким образом она это сделала?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m</cp:lastModifiedBy>
  <dcterms:modified xsi:type="dcterms:W3CDTF">2016-01-15T10:09:35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